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A0D-7605-4B9C-A12B-35547A0C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822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A1F-0B51-4DD0-B92D-8BB147FF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A8E-EE71-47D8-9820-C810F112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40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45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822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40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45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A76-547A-4800-9DE9-F71C9763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93DC-BAAB-42F7-8040-48140064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C4EF-5810-4592-AF12-D0D6CC93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ED00-285C-49CA-9924-DCF4643D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C6E3-D0C8-4247-8FCD-C9546E92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93DE-A58E-4280-942E-0FF76D0D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320" y="0"/>
            <a:ext cx="7086600" cy="14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FAF4-411F-48D4-B0DE-BCF004DE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7FFB-EDF8-47E8-BE23-BD335A87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E11-13A4-4CBC-8C70-81D4C6AA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92EA-E6A8-4126-A749-E5F27693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268D-1A83-4790-8E5B-350D8C8F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822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2099-BCAB-42B4-BDAC-C1616EDF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EB8F-56F8-438E-92A1-686DDA11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40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45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822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40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45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D856-2BBB-4D11-A361-B405B9ED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273-1E8F-4F77-8DC0-A50A69F2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1C4-FE74-4A98-8876-511A2760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5FB2-2E2A-4EF6-96E0-A14D2D53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0"/>
            <a:ext cx="7086600" cy="14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0CE8-CF1F-43BE-8CEB-B35A4E7C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0B6-ADA7-4EA7-93F4-D98B8935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D27-78CB-476E-B1D3-D2DCCDBF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269-3B79-4B48-B9D9-52383A1E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A252-126C-464A-8E4F-2E9CE1DA6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rushmore_title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30225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2EE1-A16C-43FB-B474-481A1759A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Arial"/>
              </a:rPr>
              <a:t>ACE in West Lothi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John Tease, EO, W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Arial"/>
              </a:rPr>
              <a:t>ACE in West Lothi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rganisational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tting development as close to classroom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olve resources and responsibilty lo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earer expectations and account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ing leadership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CE in WL: structures and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lanning for &amp; Implementation of 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pport fo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itial Engagement with O&amp;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1373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Planning for &amp; Implementation of 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year strategic plan: 2007-8 exemp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tion and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10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ring Group - ‘think-tank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y Group – conduit to cluster groups, consultation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w’ project board located within ACE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 Co-ordinators network (ACE CO’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Leaders (Net L’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spcAft>
                <a:spcPts val="1250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olicy framework against ACE, eg L/T policy, G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upport for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devolved to clus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 Co’s appointed per cluster (min 0.4 fte) – 13 across 11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ACE Co to co-ordinate work of ACE Co’s – 0.4 f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Leaders appointed to support ACE curricular areas &amp; X-cutting themes (1 @ curric. area prim &amp; sec, 1 @ ALN) @ £2.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ointed Glow Implementation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local and X-EA initiatives eg adaptive assessment, authentic contexts, transition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itial Engagement with O&amp;E numeracy’ &amp; beyond 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125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 22 (am or pm): for all staff involved in L/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baseline level of knowledge &amp; understanding of 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possible model for other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by ACE Co with cluster delivery team &amp; centr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led on PlE programme, using O&amp;E numera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outcomes and expectations for all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linkages with in-school and central CPD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appropriate implementation in classroom by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CE within 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52280" y="14479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76320" y="1828800"/>
            <a:ext cx="92966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john.tease@westlothian.gov.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4T15:29:04Z</dcterms:created>
  <dc:creator>John Tease</dc:creator>
  <dc:description/>
  <dc:language>en-US</dc:language>
  <cp:lastModifiedBy>IT Services</cp:lastModifiedBy>
  <cp:lastPrinted>2003-10-27T20:47:04Z</cp:lastPrinted>
  <dcterms:modified xsi:type="dcterms:W3CDTF">2007-09-21T09:25:07Z</dcterms:modified>
  <cp:revision>47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34386713</vt:r8>
  </property>
  <property fmtid="{D5CDD505-2E9C-101B-9397-08002B2CF9AE}" pid="3" name="_AuthorEmail">
    <vt:lpwstr>Charlie.Penman@scotland.gsi.gov.uk</vt:lpwstr>
  </property>
  <property fmtid="{D5CDD505-2E9C-101B-9397-08002B2CF9AE}" pid="4" name="_AuthorEmailDisplayName">
    <vt:lpwstr>Penman C (Charlie)</vt:lpwstr>
  </property>
  <property fmtid="{D5CDD505-2E9C-101B-9397-08002B2CF9AE}" pid="5" name="_EmailSubject">
    <vt:lpwstr>Clean presentations</vt:lpwstr>
  </property>
</Properties>
</file>