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3981-C5FE-401E-9EB4-A4B5B2FA3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086600" cy="302256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66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682280" y="4076280"/>
            <a:ext cx="586116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682280" y="4733280"/>
            <a:ext cx="586116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83B1-E5AC-4DB7-9986-70743E843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086600" cy="302256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66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8228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82280" y="4733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733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06E3-885E-4840-99F9-7FA6AF6E4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086600" cy="302256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66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82280" y="4076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64080" y="4076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45880" y="4076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682280" y="4733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64080" y="4733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45880" y="4733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C6C7-BE56-4BAC-B65D-67341D92D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6FD4F-EEF2-4782-A03E-D356B839D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086600" cy="302256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66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6822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442D4-D0B9-4075-8558-8F78E2E04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086600" cy="302256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66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822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74BBE-197D-46CF-AA91-8485659DF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086600" cy="302256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66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682280" y="4076280"/>
            <a:ext cx="28602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4076280"/>
            <a:ext cx="28602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41414-186C-4D59-89F7-55A89D148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086600" cy="302256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66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88AFC-8275-41A3-9A15-8E7A56F9B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066320" y="0"/>
            <a:ext cx="7086600" cy="14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85B99-D7CC-41B0-903E-8A8A9D25B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086600" cy="302256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66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8228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4076280"/>
            <a:ext cx="28602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682280" y="4733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A5195-A85B-479F-9935-0F8EF7B03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086600" cy="302256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66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6822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88C0-6F1A-4697-9A42-77E43EB23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086600" cy="302256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66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682280" y="4076280"/>
            <a:ext cx="28602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760" y="4733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8D730-6F1D-4AC9-B662-90AF1F010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086600" cy="302256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66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68228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76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682280" y="4733280"/>
            <a:ext cx="586116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E841A-88E6-4C3F-99CE-C187C282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086600" cy="302256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66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682280" y="4076280"/>
            <a:ext cx="586116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682280" y="4733280"/>
            <a:ext cx="586116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E9882-5FBA-4977-9147-ACABC846C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086600" cy="302256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66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68228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76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682280" y="4733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760" y="4733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FA593-C3C6-4FD5-A31F-694504E8F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086600" cy="302256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66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82280" y="4076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64080" y="4076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45880" y="4076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682280" y="4733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64080" y="4733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45880" y="4733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B2BA5-C9EE-441D-8E07-0EA416097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086600" cy="302256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66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6822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29B4-E11A-4840-BE54-527ED3B34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086600" cy="302256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66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682280" y="4076280"/>
            <a:ext cx="28602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4076280"/>
            <a:ext cx="28602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95F0-6ACF-4115-BB2A-7CB704DF0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086600" cy="302256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66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74C0-F5FC-4042-BDF2-172D78C92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320" y="0"/>
            <a:ext cx="7086600" cy="14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28A4-D6E5-4C3D-8AA9-9A0476ECF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086600" cy="302256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66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68228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4076280"/>
            <a:ext cx="28602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682280" y="4733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DDE4-54DB-42DE-966C-C2D0F109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086600" cy="302256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66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682280" y="4076280"/>
            <a:ext cx="28602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733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726F-9273-4708-9FD7-D054B9C33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086600" cy="302256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66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8228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682280" y="4733280"/>
            <a:ext cx="586116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4514-C444-4FCD-A0F4-3360E5D5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8954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31920" indent="-1756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E3263-4880-43C8-A3CC-5A8A6F4775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rushmore_title" descr=""/>
          <p:cNvPicPr/>
          <p:nvPr/>
        </p:nvPicPr>
        <p:blipFill>
          <a:blip r:embed="rId3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086600" cy="302256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66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DB118-C724-44F8-8FCD-BA19660F31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3300"/>
                </a:solidFill>
                <a:latin typeface="Arial"/>
              </a:rPr>
              <a:t>ACE in West Lothia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1373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1373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John Tease, EO, W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1373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1373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3300"/>
                </a:solidFill>
                <a:latin typeface="Arial"/>
              </a:rPr>
              <a:t>ACE in West Lothia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1373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Organisational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3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tting development as close to classroom as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3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olve resources and responsibilty lo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3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earer expectations and account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3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moting leadership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1373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1373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1373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CE in WL: structures and sup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3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lanning for &amp; Implementation of 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3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upport for Sch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3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itial Engagement with O&amp;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1373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00"/>
                </a:solidFill>
                <a:latin typeface="Arial"/>
              </a:rPr>
              <a:t>Planning for &amp; Implementation of 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213372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1676520"/>
            <a:ext cx="8382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year strategic plan: 2007-8 exemp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ltation and commun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spcAft>
                <a:spcPts val="10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ering Group - ‘think-tank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spcAft>
                <a:spcPts val="1250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tegy Group – conduit to cluster groups, consultation for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spcAft>
                <a:spcPts val="1250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w’ project board located within ACE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spcAft>
                <a:spcPts val="1250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E Co-ordinators network (ACE CO’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spcAft>
                <a:spcPts val="1250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Leaders (Net L’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spcAft>
                <a:spcPts val="1250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policy framework against ACE, eg L/T policy, G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upport for Sch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0">
              <a:lnSpc>
                <a:spcPct val="12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devolved to cluste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25000"/>
              </a:lnSpc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E Co’s appointed per cluster (min 0.4 fte) – 13 across 11 clu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25000"/>
              </a:lnSpc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 ACE Co to co-ordinate work of ACE Co’s – 0.4 f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25000"/>
              </a:lnSpc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Leaders appointed to support ACE curricular areas &amp; X-cutting themes (1 @ curric. area prim &amp; sec, 1 @ ALN) @ £2.5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25000"/>
              </a:lnSpc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ointed Glow Implementation Offi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25000"/>
              </a:lnSpc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for local and X-EA initiatives eg adaptive assessment, authentic contexts, transition program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12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12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‘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Initial Engagement with O&amp;E numeracy’ &amp; beyond 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0773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lnSpc>
                <a:spcPct val="125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t 22 (am or pm): for all staff involved in L/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125000"/>
              </a:lnSpc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blish baseline level of knowledge &amp; understanding of 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125000"/>
              </a:lnSpc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possible model for other outc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125000"/>
              </a:lnSpc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 by ACE Co with cluster delivery team &amp; central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125000"/>
              </a:lnSpc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led on PlE programme, using O&amp;E numerac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125000"/>
              </a:lnSpc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 outcomes and expectations for all particip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125000"/>
              </a:lnSpc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icit linkages with in-school and central CPD program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125000"/>
              </a:lnSpc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cus on appropriate implementation in classroom by 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12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12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CE within W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152280" y="1447920"/>
            <a:ext cx="464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-76320" y="1828800"/>
            <a:ext cx="929664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john.tease@westlothian.gov.u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14T15:29:04Z</dcterms:created>
  <dc:creator>John Tease</dc:creator>
  <dc:description/>
  <dc:language>en-US</dc:language>
  <cp:lastModifiedBy>IT Services</cp:lastModifiedBy>
  <cp:lastPrinted>2003-10-27T20:47:04Z</cp:lastPrinted>
  <dcterms:modified xsi:type="dcterms:W3CDTF">2007-09-21T09:25:07Z</dcterms:modified>
  <cp:revision>47</cp:revision>
  <dc:subject/>
  <dc:title>Introdu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234386713</vt:r8>
  </property>
  <property fmtid="{D5CDD505-2E9C-101B-9397-08002B2CF9AE}" pid="3" name="_AuthorEmail">
    <vt:lpwstr>Charlie.Penman@scotland.gsi.gov.uk</vt:lpwstr>
  </property>
  <property fmtid="{D5CDD505-2E9C-101B-9397-08002B2CF9AE}" pid="4" name="_AuthorEmailDisplayName">
    <vt:lpwstr>Penman C (Charlie)</vt:lpwstr>
  </property>
  <property fmtid="{D5CDD505-2E9C-101B-9397-08002B2CF9AE}" pid="5" name="_EmailSubject">
    <vt:lpwstr>Clean presentations</vt:lpwstr>
  </property>
</Properties>
</file>