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A21-4A89-41D3-9540-CF3BFC7D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79E-46FA-411F-817F-34D3D555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756-6AA1-4795-A531-75C85B8F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D5E-5750-4E5B-B1EA-BE2B8062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6BD7-DE52-4A5E-996D-F85926FC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EDE6-E33C-42F0-95C7-18565169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245E-E1AE-481F-8BFC-57F4FFA4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19F8-7EC0-4DBD-A52B-44A4081C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1B37-B5C1-438B-A687-A1CFE0E9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4761-FAC2-4A6C-879B-9B4C6206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8A5D-F3B3-43CA-A68E-5E16E96D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F0A-2CF6-49CE-9392-82865404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4D55-552A-4669-A462-7C9D6055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6D72-D883-45CE-A851-2294C93E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91CD-A8DF-4C58-B457-18876D8D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8875-A9F4-446E-B252-6086B40C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7224-B8AF-45F8-A8E7-DC5F0295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598-9EF7-48D8-AA5F-E32120BB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A5A-68C8-4E73-B20A-1A96907C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8D3-0727-4D20-B2FC-B067C802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180-2DF8-49BE-9011-5E5B3F71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69DC-9FFA-40DC-AED5-EFDA46BD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6A6-9830-467F-BE50-C067EB83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526-4337-469F-BAE1-723A31F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2836-3FAE-41A0-AF21-D009D9D27A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2F5-F05D-4947-8652-995B690B9A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Skills Strategy</a:t>
            </a: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Vocational Learning 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Sund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Directo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verview and Timing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40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for Scotland – A Lifelong Skill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tional Learning – parity of 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860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38720" y="3825720"/>
            <a:ext cx="1538280" cy="18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Skills for Scotland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hesiv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ifelong lear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for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Vocational Learning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models of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iculum for Excellence and voc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4508640"/>
            <a:ext cx="4680000" cy="191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Vocational Learning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cational education [is] a great idea for other people’s child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primary disadvantage is that many people who take a practical route are doing so in the context of already being branded “a failure”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Next Step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1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of a process not the 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cational learning is for every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400536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9:19:46Z</dcterms:created>
  <dc:creator>Rachel Sunderland</dc:creator>
  <dc:description/>
  <dc:language>en-US</dc:language>
  <cp:lastModifiedBy>C Penman</cp:lastModifiedBy>
  <dcterms:modified xsi:type="dcterms:W3CDTF">2007-09-27T08:32:18Z</dcterms:modified>
  <cp:revision>7</cp:revision>
  <dc:subject/>
  <dc:title>Skills Strategy Vocational Lear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bjective-Caveats">
    <vt:lpwstr/>
  </property>
  <property fmtid="{D5CDD505-2E9C-101B-9397-08002B2CF9AE}" pid="3" name="Objective-Classification">
    <vt:lpwstr>Unclassified</vt:lpwstr>
  </property>
  <property fmtid="{D5CDD505-2E9C-101B-9397-08002B2CF9AE}" pid="4" name="Objective-Comment">
    <vt:lpwstr/>
  </property>
  <property fmtid="{D5CDD505-2E9C-101B-9397-08002B2CF9AE}" pid="5" name="Objective-CreationStamp">
    <vt:filetime>2007-09-24T15:59:44Z</vt:filetime>
  </property>
  <property fmtid="{D5CDD505-2E9C-101B-9397-08002B2CF9AE}" pid="6" name="Objective-Date Received [system]">
    <vt:lpwstr>&lt;not set&gt;</vt:lpwstr>
  </property>
  <property fmtid="{D5CDD505-2E9C-101B-9397-08002B2CF9AE}" pid="7" name="Objective-Date of Original [system]">
    <vt:lpwstr>&lt;not set&gt;</vt:lpwstr>
  </property>
  <property fmtid="{D5CDD505-2E9C-101B-9397-08002B2CF9AE}" pid="8" name="Objective-DatePublished">
    <vt:lpwstr/>
  </property>
  <property fmtid="{D5CDD505-2E9C-101B-9397-08002B2CF9AE}" pid="9" name="Objective-FileNumber">
    <vt:lpwstr>POL/2834</vt:lpwstr>
  </property>
  <property fmtid="{D5CDD505-2E9C-101B-9397-08002B2CF9AE}" pid="10" name="Objective-Id">
    <vt:lpwstr>F1028257</vt:lpwstr>
  </property>
  <property fmtid="{D5CDD505-2E9C-101B-9397-08002B2CF9AE}" pid="11" name="Objective-IsApproved">
    <vt:lpwstr>No</vt:lpwstr>
  </property>
  <property fmtid="{D5CDD505-2E9C-101B-9397-08002B2CF9AE}" pid="12" name="Objective-IsPublished">
    <vt:lpwstr>No</vt:lpwstr>
  </property>
  <property fmtid="{D5CDD505-2E9C-101B-9397-08002B2CF9AE}" pid="13" name="Objective-ModificationStamp">
    <vt:filetime>2007-09-24T15:59:52Z</vt:filetime>
  </property>
  <property fmtid="{D5CDD505-2E9C-101B-9397-08002B2CF9AE}" pid="14" name="Objective-Owner">
    <vt:lpwstr>Sunderland, Rachel RE (u115080)</vt:lpwstr>
  </property>
  <property fmtid="{D5CDD505-2E9C-101B-9397-08002B2CF9AE}" pid="15" name="Objective-Parent">
    <vt:lpwstr>Qualifications Assessment and Skills: Skills for work: Advice and policy - Schools - Curriculum and qualifications (3-18) : 2005-</vt:lpwstr>
  </property>
  <property fmtid="{D5CDD505-2E9C-101B-9397-08002B2CF9AE}" pid="16" name="Objective-Path">
    <vt:lpwstr>Objective Global Folder:SE File Plan:Education, careers and employment:Education and skills:Schools - Curriculum and qualifications (3-18):Advice and policy: Schools - curriculum and qualifications (3-18):Qualifications Assessment and Skills: Skills for w</vt:lpwstr>
  </property>
  <property fmtid="{D5CDD505-2E9C-101B-9397-08002B2CF9AE}" pid="17" name="Objective-State">
    <vt:lpwstr>Being Edited</vt:lpwstr>
  </property>
  <property fmtid="{D5CDD505-2E9C-101B-9397-08002B2CF9AE}" pid="18" name="Objective-Title">
    <vt:lpwstr>EA Contacts Meeting - presentation on Skills Strategy and Vocational Learning - September 2007</vt:lpwstr>
  </property>
  <property fmtid="{D5CDD505-2E9C-101B-9397-08002B2CF9AE}" pid="19" name="Objective-Version">
    <vt:lpwstr>0.2</vt:lpwstr>
  </property>
  <property fmtid="{D5CDD505-2E9C-101B-9397-08002B2CF9AE}" pid="20" name="Objective-VersionComment">
    <vt:lpwstr>Version 2</vt:lpwstr>
  </property>
  <property fmtid="{D5CDD505-2E9C-101B-9397-08002B2CF9AE}" pid="21" name="Objective-VersionNumber">
    <vt:r8>2</vt:r8>
  </property>
  <property fmtid="{D5CDD505-2E9C-101B-9397-08002B2CF9AE}" pid="22" name="Version">
    <vt:r8>3</vt:r8>
  </property>
  <property fmtid="{D5CDD505-2E9C-101B-9397-08002B2CF9AE}" pid="23" name="_AdHocReviewCycleID">
    <vt:r8>1552289960</vt:r8>
  </property>
  <property fmtid="{D5CDD505-2E9C-101B-9397-08002B2CF9AE}" pid="24" name="_AuthorEmail">
    <vt:lpwstr>Charlie.Penman@scotland.gsi.gov.uk</vt:lpwstr>
  </property>
  <property fmtid="{D5CDD505-2E9C-101B-9397-08002B2CF9AE}" pid="25" name="_AuthorEmailDisplayName">
    <vt:lpwstr>Penman C (Charlie)</vt:lpwstr>
  </property>
  <property fmtid="{D5CDD505-2E9C-101B-9397-08002B2CF9AE}" pid="26" name="_EmailSubject">
    <vt:lpwstr>Clean presentations</vt:lpwstr>
  </property>
</Properties>
</file>