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285-2E15-4A94-A8C2-56D8B0C6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B0B-3585-4C87-8798-C22D7323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112-B175-4CD0-8B03-3CF5D28F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995-0641-47CB-BAB5-ADE05D7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A7B-8B90-40A1-A352-6678B0F4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5F51-02BE-4D88-9B12-3EFC0577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66B8-C773-4B8A-A878-05BB7B1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5281-D7E0-442D-8509-210F6CD5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8380-3905-402B-874B-E6BC22FD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AC5E-DE5B-4713-805D-CA944B9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679C-88C0-4EE4-B14D-6F8110DA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ECC-A873-4762-B62E-319D4A2B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54A3-C10F-4BC9-BCD7-9C1AE33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194E-8D56-4146-9C1A-29DF8D63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5845-922A-4C1B-B5EA-36CF882B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09C-1678-4B93-AF26-477D5C75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312A-F60C-497D-8109-9C1EF49E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CEA-2E6E-4096-9768-6F66A615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449-006F-4BB3-91D1-800F23FB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BC1-BFC3-43E4-9526-0F48F80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E9B8-ABB2-4AC6-9CEE-1155E21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C14-F8D3-4871-A4B9-260DC5D6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DF6-D7EB-44D0-B22C-A7671591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BB0-A022-4768-8EC5-3511ABB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CAD9-21C8-4AD7-8F91-58E69E378C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E20-ABCB-46C8-9F93-9C0AD5E50E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Skills Strategy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Vocational Learning 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Sund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Direct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verview and Timin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0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for Scotland – A Lifelong Skill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Learning – parity of 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38720" y="3825720"/>
            <a:ext cx="1538280" cy="18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kills for Scotland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v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felong lear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for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Vocational Learnin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ls of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for Excellence and voc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4680000" cy="191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Vocational Learnin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cational education [is] a great idea for other people’s child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rimary disadvantage is that many people who take a practical route are doing so in the context of already being branded “a failure”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Next Step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f a process not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learning is for ever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9:19:46Z</dcterms:created>
  <dc:creator>Rachel Sunderland</dc:creator>
  <dc:description/>
  <dc:language>en-US</dc:language>
  <cp:lastModifiedBy>C Penman</cp:lastModifiedBy>
  <dcterms:modified xsi:type="dcterms:W3CDTF">2007-09-27T08:32:18Z</dcterms:modified>
  <cp:revision>7</cp:revision>
  <dc:subject/>
  <dc:title>Skills Strategy Vocational Lear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Un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7-09-24T15:59:44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>POL/2834</vt:lpwstr>
  </property>
  <property fmtid="{D5CDD505-2E9C-101B-9397-08002B2CF9AE}" pid="10" name="Objective-Id">
    <vt:lpwstr>F1028257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7-09-24T15:59:52Z</vt:filetime>
  </property>
  <property fmtid="{D5CDD505-2E9C-101B-9397-08002B2CF9AE}" pid="14" name="Objective-Owner">
    <vt:lpwstr>Sunderland, Rachel RE (u115080)</vt:lpwstr>
  </property>
  <property fmtid="{D5CDD505-2E9C-101B-9397-08002B2CF9AE}" pid="15" name="Objective-Parent">
    <vt:lpwstr>Qualifications Assessment and Skills: Skills for work: Advice and policy - Schools - Curriculum and qualifications (3-18) : 2005-</vt:lpwstr>
  </property>
  <property fmtid="{D5CDD505-2E9C-101B-9397-08002B2CF9AE}" pid="16" name="Objective-Path">
    <vt:lpwstr>Objective Global Folder:SE File Plan:Education, careers and employment:Education and skills:Schools - Curriculum and qualifications (3-18):Advice and policy: Schools - curriculum and qualifications (3-18):Qualifications Assessment and Skills: Skills for w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EA Contacts Meeting - presentation on Skills Strategy and Vocational Learning - September 2007</vt:lpwstr>
  </property>
  <property fmtid="{D5CDD505-2E9C-101B-9397-08002B2CF9AE}" pid="19" name="Objective-Version">
    <vt:lpwstr>0.2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  <property fmtid="{D5CDD505-2E9C-101B-9397-08002B2CF9AE}" pid="22" name="Version">
    <vt:r8>3</vt:r8>
  </property>
  <property fmtid="{D5CDD505-2E9C-101B-9397-08002B2CF9AE}" pid="23" name="_AdHocReviewCycleID">
    <vt:r8>1552289960</vt:r8>
  </property>
  <property fmtid="{D5CDD505-2E9C-101B-9397-08002B2CF9AE}" pid="24" name="_AuthorEmail">
    <vt:lpwstr>Charlie.Penman@scotland.gsi.gov.uk</vt:lpwstr>
  </property>
  <property fmtid="{D5CDD505-2E9C-101B-9397-08002B2CF9AE}" pid="25" name="_AuthorEmailDisplayName">
    <vt:lpwstr>Penman C (Charlie)</vt:lpwstr>
  </property>
  <property fmtid="{D5CDD505-2E9C-101B-9397-08002B2CF9AE}" pid="26" name="_EmailSubject">
    <vt:lpwstr>Clean presentations</vt:lpwstr>
  </property>
</Properties>
</file>