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6B5-4ECF-4525-BA64-17B4914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002-E2AD-47A9-A395-AE04741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5D0-AE3A-437E-87C2-4C6A9084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253-5217-4268-9A1D-7D14030F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6EEB-3D6D-4DBC-9841-22CE5CF6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FDB-7DED-4C75-B3CE-9A637FB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9568-24D9-40CA-8EAA-89F3A4D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374D-ACE6-4CD9-A357-F58F5CAF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FA32-EDFE-4DE0-8DAB-491485E1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3362-A2D1-42F5-862D-B95591CB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782-8F05-473E-B202-28C5692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176-662A-4512-9756-58701B17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8812-C712-4A03-83C8-90998AEB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000B-AC82-4693-9B88-832F8DE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66BB-82C9-4072-B984-2595376E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D749-86D9-406D-8D6C-FB213C2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74E0-8EF2-4E8D-92F5-24408CA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5DA-AD1A-48A1-AA22-7E0ECD8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D01-530B-4E40-AA0F-8712D03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8EF-3BF6-4AFE-9A83-AAD1CD88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785-82E1-456C-822F-E41C0FD2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BE8-15EE-4EFE-BD65-29C1A496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96D-0F90-4E3B-943B-B620E7F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BA7-900C-4BE2-9B69-38D3D0A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A6AE-130E-488F-B4D3-6323ABDC0E0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86ED-697A-45EB-8953-E9FA960DA78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4c2b"/>
                </a:solidFill>
                <a:latin typeface="Times New Roman"/>
              </a:rPr>
              <a:t>Curriculum for Excellence in Midlothian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789360"/>
            <a:ext cx="777240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Planning for engagement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58920" y="98100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Times New Roman"/>
              </a:rPr>
              <a:t>Alternative title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349360"/>
            <a:ext cx="7632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Back to Reality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o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Times New Roman"/>
              </a:rPr>
              <a:t>Gamekeeper Turned Poacher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4360" y="8366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Times New Roman"/>
              </a:rPr>
              <a:t>Salutary Experiences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421000"/>
            <a:ext cx="77770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School visit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Inservice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1125360"/>
            <a:ext cx="7848360" cy="4680000"/>
          </a:xfrm>
          <a:prstGeom prst="rect">
            <a:avLst/>
          </a:prstGeom>
          <a:noFill/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There may always be 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another reality…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to make fiction of the trut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333333"/>
                </a:solidFill>
                <a:latin typeface="Times New Roman"/>
              </a:rPr>
              <a:t>we think we’ve arrived at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imes New Roman"/>
              </a:rPr>
              <a:t>Christopher Fry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c2b"/>
                </a:solidFill>
                <a:latin typeface="Times New Roman"/>
              </a:rPr>
              <a:t>Planning in Midlothian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2060640"/>
            <a:ext cx="813600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Integrating local with consortium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Local plan</a:t>
            </a: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ognise readiness to eng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vide promp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utilise existing networks and subject lead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promote and encourage deep engagemen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4c2b"/>
                </a:solidFill>
                <a:latin typeface="Times New Roman"/>
              </a:rPr>
              <a:t>Planning in Midlothian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77320" y="599904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2060640"/>
            <a:ext cx="813600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Times New Roman"/>
              </a:rPr>
              <a:t>Consortium plan</a:t>
            </a:r>
            <a:r>
              <a:rPr b="0" lang="en-GB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a godsend!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mutual support, joint planning, economies          of sca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November conference – numerac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Times New Roman"/>
              </a:rPr>
              <a:t>recall in Mar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4c2b"/>
                </a:solidFill>
                <a:latin typeface="Times New Roman"/>
              </a:rPr>
              <a:t>Engaging with the outcomes and experienc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Creating possible programm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Deconstructing the outcom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Identifying link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Developing short teaching sequen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333333"/>
                </a:solidFill>
                <a:latin typeface="Times New Roman"/>
              </a:rPr>
              <a:t>Creative thinking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Times New Roman"/>
              </a:rPr>
              <a:t>Feedback based on deep engagemen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7080" y="2276640"/>
            <a:ext cx="0" cy="1944360"/>
          </a:xfrm>
          <a:prstGeom prst="line">
            <a:avLst/>
          </a:prstGeom>
          <a:ln cap="sq" w="2844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5:11:37Z</dcterms:created>
  <dc:creator>Computer Services</dc:creator>
  <dc:description/>
  <dc:language>en-US</dc:language>
  <cp:lastModifiedBy>C Penman</cp:lastModifiedBy>
  <cp:lastPrinted>2003-04-25T09:56:48Z</cp:lastPrinted>
  <dcterms:modified xsi:type="dcterms:W3CDTF">2007-09-27T08:35:49Z</dcterms:modified>
  <cp:revision>149</cp:revision>
  <dc:subject/>
  <dc:title>MIDLOTHIAN COUNCI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08129956</vt:r8>
  </property>
  <property fmtid="{D5CDD505-2E9C-101B-9397-08002B2CF9AE}" pid="3" name="_AuthorEmail">
    <vt:lpwstr>Charlie.Penman@scotland.gsi.gov.uk</vt:lpwstr>
  </property>
  <property fmtid="{D5CDD505-2E9C-101B-9397-08002B2CF9AE}" pid="4" name="_AuthorEmailDisplayName">
    <vt:lpwstr>Penman C (Charlie)</vt:lpwstr>
  </property>
  <property fmtid="{D5CDD505-2E9C-101B-9397-08002B2CF9AE}" pid="5" name="_EmailSubject">
    <vt:lpwstr>Clean presentations</vt:lpwstr>
  </property>
</Properties>
</file>