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D10-266E-4C88-8180-0E7A9314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8A9-E917-4A73-8BE5-F8D995A0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130-4D26-4AEC-877B-6DB5F586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8E8-6C88-458B-98ED-14FADF26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9F18-964A-43AF-B2A0-69BAB795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A860-7FF8-40C9-8BDC-A74021E3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4BB6-9578-46C5-9E71-AD1D687A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A077-0EA9-4B4D-9971-D2F6C092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2D95-4BC5-4166-812F-81188E76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C9D3-3E10-4D40-9AA4-7B263349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0356-B6BD-4522-ACCB-D311137B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5E2-EEB5-45A0-A7DC-44B67EA7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0216-6F3F-405E-915B-6B06BE30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897D-9E4F-4F8A-A060-460A897D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C2E5-E684-45D5-991B-6DCFD4F5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15C6-69C7-42B6-8994-AC5A7CA6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20C7-60B5-4438-A585-1C21A879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09C-3C0A-4A19-A9F9-519878C1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4CE-0010-49F7-8E79-D2A60070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FEA-14BF-4516-B69A-C7BC72A2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759-49EB-4203-85D8-796E0EBE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399-2049-4808-896A-932F9658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732-E8A9-4162-9DAF-2CBC42BE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5DA-EEBD-45A8-B3C7-7CDFFAA7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349C-610D-4C1D-9EAF-856D076831A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34A5-6636-4473-9C76-3C863C8C504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077320" y="599904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4c2b"/>
                </a:solidFill>
                <a:latin typeface="Times New Roman"/>
              </a:rPr>
              <a:t>Curriculum for Excellence in Midlothian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789360"/>
            <a:ext cx="777240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Planning for engagement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77320" y="599904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98100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33"/>
                </a:solidFill>
                <a:latin typeface="Times New Roman"/>
              </a:rPr>
              <a:t>Alternative titles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349360"/>
            <a:ext cx="76327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Times New Roman"/>
              </a:rPr>
              <a:t>Back to Reality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Times New Roman"/>
              </a:rPr>
              <a:t>or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Times New Roman"/>
              </a:rPr>
              <a:t>Gamekeeper Turned Poacher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77320" y="599904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4360" y="83664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33"/>
                </a:solidFill>
                <a:latin typeface="Times New Roman"/>
              </a:rPr>
              <a:t>Salutary Experiences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421000"/>
            <a:ext cx="7777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Times New Roman"/>
              </a:rPr>
              <a:t>School visit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Times New Roman"/>
              </a:rPr>
              <a:t>Inservice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077320" y="599904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1125360"/>
            <a:ext cx="7848360" cy="4680000"/>
          </a:xfrm>
          <a:prstGeom prst="rect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33"/>
                </a:solidFill>
                <a:latin typeface="Times New Roman"/>
              </a:rPr>
              <a:t>There may always be 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33"/>
                </a:solidFill>
                <a:latin typeface="Times New Roman"/>
              </a:rPr>
              <a:t>another reality…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33"/>
                </a:solidFill>
                <a:latin typeface="Times New Roman"/>
              </a:rPr>
              <a:t>to make fiction of the trut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33"/>
                </a:solidFill>
                <a:latin typeface="Times New Roman"/>
              </a:rPr>
              <a:t>we think we’ve arrived at.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Times New Roman"/>
              </a:rPr>
              <a:t>Christopher Fry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4c2b"/>
                </a:solidFill>
                <a:latin typeface="Times New Roman"/>
              </a:rPr>
              <a:t>Planning in Midlothian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077320" y="599904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2060640"/>
            <a:ext cx="813600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Times New Roman"/>
              </a:rPr>
              <a:t>Integrating local with consortium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Times New Roman"/>
              </a:rPr>
              <a:t>Local plan</a:t>
            </a:r>
            <a:r>
              <a:rPr b="0" lang="en-GB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gnise readiness to en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ide promp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e existing networks and subject lead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mote and encourage deep engag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4c2b"/>
                </a:solidFill>
                <a:latin typeface="Times New Roman"/>
              </a:rPr>
              <a:t>Planning in Midlothian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77320" y="599904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2060640"/>
            <a:ext cx="813600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Times New Roman"/>
              </a:rPr>
              <a:t>Consortium plan</a:t>
            </a:r>
            <a:r>
              <a:rPr b="0" lang="en-GB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godsend!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utual support, joint planning, economies          of sca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vember conference – numerac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all in Mar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Times New Roman"/>
              </a:rPr>
              <a:t>Engaging with the outcomes and experien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Creating possible programm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Deconstructing the outcom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Identifying link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Developing short teaching sequenc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33"/>
                </a:solidFill>
                <a:latin typeface="Times New Roman"/>
              </a:rPr>
              <a:t>Creative thinking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Feedback based on deep engagem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7080" y="2276640"/>
            <a:ext cx="0" cy="1944360"/>
          </a:xfrm>
          <a:prstGeom prst="line">
            <a:avLst/>
          </a:prstGeom>
          <a:ln cap="sq" w="2844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5:11:37Z</dcterms:created>
  <dc:creator>Computer Services</dc:creator>
  <dc:description/>
  <dc:language>en-US</dc:language>
  <cp:lastModifiedBy>C Penman</cp:lastModifiedBy>
  <cp:lastPrinted>2003-04-25T09:56:48Z</cp:lastPrinted>
  <dcterms:modified xsi:type="dcterms:W3CDTF">2007-09-27T08:35:49Z</dcterms:modified>
  <cp:revision>149</cp:revision>
  <dc:subject/>
  <dc:title>MIDLOTHIAN COUNCI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08129956</vt:r8>
  </property>
  <property fmtid="{D5CDD505-2E9C-101B-9397-08002B2CF9AE}" pid="3" name="_AuthorEmail">
    <vt:lpwstr>Charlie.Penman@scotland.gsi.gov.uk</vt:lpwstr>
  </property>
  <property fmtid="{D5CDD505-2E9C-101B-9397-08002B2CF9AE}" pid="4" name="_AuthorEmailDisplayName">
    <vt:lpwstr>Penman C (Charlie)</vt:lpwstr>
  </property>
  <property fmtid="{D5CDD505-2E9C-101B-9397-08002B2CF9AE}" pid="5" name="_EmailSubject">
    <vt:lpwstr>Clean presentations</vt:lpwstr>
  </property>
</Properties>
</file>