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E43-B3AA-4D05-B279-4A759065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372852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D60-9B12-4D7B-9CCD-AE7A04F1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400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3AB-D5C6-404D-A5D1-DCE2832C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896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0264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896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0264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6AF2-9764-4CC3-9D35-796ED30A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4089-1838-4B4D-97A6-6998560A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0A5E-81D3-43DC-ADE7-BF11E346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2C9A-CCBE-4951-8C26-1A4C41CD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91E6-8BE7-425E-BF4C-4DAACB0B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C8A4-F626-4E77-880D-48152E1C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1CC0-E8CF-4A84-B42F-CBA8DC0F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4849-D780-4A75-9798-EC53B00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DFF-1A18-4F0F-BB68-6D615848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400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927C-16F1-47A9-A6AD-43D86F9D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FB8B-C0EE-4616-92C8-6D733697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280" y="372852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CDCD-AA70-4FC3-B113-709FD422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400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405E-8C23-43C1-A70E-9F2C30F2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896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2640" y="177336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528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896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2640" y="3728520"/>
            <a:ext cx="266976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61F3-2066-411D-A970-6FB126D1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869-7AD9-4C05-B811-54CCE7C1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C42-79B6-4F24-80C2-2A1DCD08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480-A05D-49CE-9466-66C15852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6119-C8D3-4E9F-A2C9-8D98C0B2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DA8-E228-4A15-B865-2B6B17C6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4000" y="372852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11B-7420-4C66-8D30-3A5BD6D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000" y="1773360"/>
            <a:ext cx="404604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3728520"/>
            <a:ext cx="829152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DAD-5CCB-4707-8F69-DE4DA225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773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A7EC-BC56-4AE3-BD83-66440F8B2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362480" y="266760"/>
            <a:ext cx="4381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D0E8-6CF2-4AB5-A341-4B09D4D24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44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ngageme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 Contacts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pt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95280" y="285840"/>
            <a:ext cx="8404200" cy="5689440"/>
            <a:chOff x="395280" y="285840"/>
            <a:chExt cx="8404200" cy="5689440"/>
          </a:xfrm>
        </p:grpSpPr>
        <p:sp>
          <p:nvSpPr>
            <p:cNvPr id="89" name=""/>
            <p:cNvSpPr/>
            <p:nvPr/>
          </p:nvSpPr>
          <p:spPr>
            <a:xfrm>
              <a:off x="3853440" y="280692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romoters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Dri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27560" y="2519280"/>
              <a:ext cx="2224080" cy="1257480"/>
            </a:xfrm>
            <a:prstGeom prst="ellipse">
              <a:avLst/>
            </a:prstGeom>
            <a:noFill/>
            <a:ln w="9360">
              <a:solidFill>
                <a:srgbClr val="000000">
                  <a:alpha val="8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8360" y="934920"/>
              <a:ext cx="215892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92360" y="4175280"/>
              <a:ext cx="2159280" cy="18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Assessment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reporting 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igned with purpo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360" y="3743280"/>
              <a:ext cx="215892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Accountability 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Plan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f-eval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rovement plan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formance meas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p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6720" y="3743280"/>
              <a:ext cx="215892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arity about parameter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acher edu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acher condi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ganisational struc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5148360" y="1726920"/>
              <a:ext cx="122400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7280" y="1798560"/>
              <a:ext cx="1224000" cy="83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0" y="381492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626920" y="3598920"/>
              <a:ext cx="1081080" cy="11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5280" y="1077840"/>
              <a:ext cx="23050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Clim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n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ppor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mployers, universi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oung peo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35640" y="3527640"/>
              <a:ext cx="1081080" cy="11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32360" y="324000"/>
              <a:ext cx="4767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73800" y="934920"/>
              <a:ext cx="215892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Developing knowledg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and understan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ear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A 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ibution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TS, TEIs, SFE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fessional and 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ociation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1600" y="285840"/>
              <a:ext cx="2159280" cy="18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Motivation 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Commi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ared vi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0" y="2103480"/>
              <a:ext cx="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 Curriculum for Excell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y for successfu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eps towards implementation</a:t>
            </a:r>
            <a:br>
              <a:rPr sz="28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e that they overlap and that there are intera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52640"/>
            <a:ext cx="9144000" cy="1982520"/>
          </a:xfrm>
          <a:prstGeom prst="rect">
            <a:avLst/>
          </a:prstGeom>
          <a:solidFill>
            <a:srgbClr val="bbe0e3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ising awareness with all who need to know, and listening and responding to the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629080"/>
            <a:ext cx="8305920" cy="253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ing knowledge and understanding through reflection an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option of aspects of CfE by teachers and establis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- contribution to ongoing development and promoting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96880" y="4603680"/>
            <a:ext cx="7647120" cy="2254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lementation – on basis of clear national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teachers planning on the basis of revised curriculum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iculum for each child reflects CfE principles an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 components in place: including CPD, resources, plann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ssessment, qualifications, accountability arrangement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9960" y="44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Some outcomes of eng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6200" y="12207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ildren and young people experience better learning and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chers have deeper knowledge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groups provide considere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osals refined in the light of this feedback and responses to feedback expl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PD plans made and need for resource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812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Engagement strategy requi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5840" y="1506600"/>
            <a:ext cx="82342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, shared messages across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ty about roles of all key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ing with the grain of existing practice, networks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requisite knowledge and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sectoral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kits’ for activities with differen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180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7680" y="156384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-line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ses from 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180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52480" y="179244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ease of the outcomes – timing and b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ning for eng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ing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ations for improvemen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ications for CP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 Penman</cp:lastModifiedBy>
  <cp:lastPrinted>2006-09-07T17:51:05Z</cp:lastPrinted>
  <dcterms:modified xsi:type="dcterms:W3CDTF">2007-09-25T17:07:45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Not 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6-10-31T12:59:19Z</vt:filetime>
  </property>
  <property fmtid="{D5CDD505-2E9C-101B-9397-08002B2CF9AE}" pid="6" name="Objective-Date Received [system]">
    <vt:lpwstr>&lt;not set&gt;</vt:lpwstr>
  </property>
  <property fmtid="{D5CDD505-2E9C-101B-9397-08002B2CF9AE}" pid="7" name="Objective-Date of Original [system]">
    <vt:lpwstr>&lt;not set&gt;</vt:lpwstr>
  </property>
  <property fmtid="{D5CDD505-2E9C-101B-9397-08002B2CF9AE}" pid="8" name="Objective-DatePublished">
    <vt:lpwstr/>
  </property>
  <property fmtid="{D5CDD505-2E9C-101B-9397-08002B2CF9AE}" pid="9" name="Objective-FileNumber">
    <vt:lpwstr>POL/5756</vt:lpwstr>
  </property>
  <property fmtid="{D5CDD505-2E9C-101B-9397-08002B2CF9AE}" pid="10" name="Objective-Id">
    <vt:lpwstr>B904252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No</vt:lpwstr>
  </property>
  <property fmtid="{D5CDD505-2E9C-101B-9397-08002B2CF9AE}" pid="13" name="Objective-ModificationStamp">
    <vt:filetime>2006-10-31T12:59:24Z</vt:filetime>
  </property>
  <property fmtid="{D5CDD505-2E9C-101B-9397-08002B2CF9AE}" pid="14" name="Objective-Owner">
    <vt:lpwstr>Kerr, Alison A (U207718)</vt:lpwstr>
  </property>
  <property fmtid="{D5CDD505-2E9C-101B-9397-08002B2CF9AE}" pid="15" name="Objective-Parent">
    <vt:lpwstr>Curriculum for Excellence: Development of Curriculum review 3-18: Advice and policy - Schools - Curriculum and qualifications (3-18) file part 2: 2006</vt:lpwstr>
  </property>
  <property fmtid="{D5CDD505-2E9C-101B-9397-08002B2CF9AE}" pid="16" name="Objective-Path">
    <vt:lpwstr>Objective Global Folder:SE File Plan:Education, careers and employment:Education and skills:Schools - Curriculum and qualifications (3-18):Advice and policy: Schools - curriculum and qualifications (3-18):Curriculum for Excellence: Development of Curricul</vt:lpwstr>
  </property>
  <property fmtid="{D5CDD505-2E9C-101B-9397-08002B2CF9AE}" pid="17" name="Objective-State">
    <vt:lpwstr>Being Edited</vt:lpwstr>
  </property>
  <property fmtid="{D5CDD505-2E9C-101B-9397-08002B2CF9AE}" pid="18" name="Objective-Title">
    <vt:lpwstr>Meetings - Programme Board - Meeting 13 - Background Paper B - Promoters and Drivers to Implementation</vt:lpwstr>
  </property>
  <property fmtid="{D5CDD505-2E9C-101B-9397-08002B2CF9AE}" pid="19" name="Objective-Version">
    <vt:lpwstr>1.1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2</vt:r8>
  </property>
  <property fmtid="{D5CDD505-2E9C-101B-9397-08002B2CF9AE}" pid="22" name="_AdHocReviewCycleID">
    <vt:r8>2042009019</vt:r8>
  </property>
  <property fmtid="{D5CDD505-2E9C-101B-9397-08002B2CF9AE}" pid="23" name="_AuthorEmail">
    <vt:lpwstr>Charlie.Penman@scotland.gsi.gov.uk</vt:lpwstr>
  </property>
  <property fmtid="{D5CDD505-2E9C-101B-9397-08002B2CF9AE}" pid="24" name="_AuthorEmailDisplayName">
    <vt:lpwstr>Penman C (Charlie)</vt:lpwstr>
  </property>
  <property fmtid="{D5CDD505-2E9C-101B-9397-08002B2CF9AE}" pid="25" name="_EmailSubject">
    <vt:lpwstr>Clean presentations</vt:lpwstr>
  </property>
</Properties>
</file>