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212-DB57-4C30-A4D6-2C64B8F0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9152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728520"/>
            <a:ext cx="829152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349-C81F-441B-AD9B-7B2CB1FC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400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E0D-C90D-4C5F-9677-8FC550A4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8960" y="177336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02640" y="177336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72852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8960" y="372852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02640" y="372852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0A4-334A-4D5D-8BAD-AF6E5A3C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1738-05EA-4469-8D1E-D456BCCC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10EF-0732-4690-8C12-5D23AEBB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2D63-B45F-4B8C-BBBF-E59D7A4C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971D-1758-40F6-ABD2-F4ECE458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D3AB-E31F-4BD1-A16A-B4ABE58C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E510-DEAF-45F7-A4D1-B061946C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528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5E01-3B07-4914-9301-96A3810A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92F-C2B3-4925-92B1-38F43981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400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6F0F-9F68-4650-A46D-B0EEA49D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3728520"/>
            <a:ext cx="829152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7ECD-7E7A-453F-93C6-E4B82B03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9152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5280" y="3728520"/>
            <a:ext cx="829152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0C73-CA82-4E53-AFC9-702085BD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528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400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CBC4-8EEA-4916-B835-50329EF4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8960" y="177336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2640" y="177336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5280" y="372852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8960" y="372852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2640" y="372852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637B-569D-4BE2-8A3A-08B9564D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CB1-E668-48C4-A404-7F66B53C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223A-214E-4720-A2CF-72F70B9C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00B1-EFFB-4616-AB71-8AFA21A1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09B-F2A9-45F3-BC84-4704C5F6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8DA-9BC9-4489-AB95-3C495582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400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641-0A87-4CA4-A958-3E23DFB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728520"/>
            <a:ext cx="829152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5F8-14C1-4C32-9C6D-C8BC353C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773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B4ED-F1E6-4AC0-8C5D-D2D42C263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362480" y="266760"/>
            <a:ext cx="43812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E5F8-DCAB-41FD-B79B-780E11128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ngagemen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 Contact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pt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95280" y="285840"/>
            <a:ext cx="8404200" cy="5689440"/>
            <a:chOff x="395280" y="285840"/>
            <a:chExt cx="8404200" cy="5689440"/>
          </a:xfrm>
        </p:grpSpPr>
        <p:sp>
          <p:nvSpPr>
            <p:cNvPr id="89" name=""/>
            <p:cNvSpPr/>
            <p:nvPr/>
          </p:nvSpPr>
          <p:spPr>
            <a:xfrm>
              <a:off x="3853440" y="280692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romoters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27560" y="2519280"/>
              <a:ext cx="2224080" cy="1257480"/>
            </a:xfrm>
            <a:prstGeom prst="ellipse">
              <a:avLst/>
            </a:prstGeom>
            <a:noFill/>
            <a:ln w="9360">
              <a:solidFill>
                <a:srgbClr val="000000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8360" y="934920"/>
              <a:ext cx="215892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92360" y="4175280"/>
              <a:ext cx="2159280" cy="18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Assessment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reporting a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igned with purpo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8360" y="3743280"/>
              <a:ext cx="215892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Accountability a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f-eval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rovement plan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formance meas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p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16720" y="3743280"/>
              <a:ext cx="215892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arity about parameter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acher edu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acher condi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ganisational struc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148360" y="1726920"/>
              <a:ext cx="122400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27280" y="1798560"/>
              <a:ext cx="1224000" cy="83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0" y="381492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626920" y="3598920"/>
              <a:ext cx="1081080" cy="11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5280" y="1077840"/>
              <a:ext cx="23050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Clim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ner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ppor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ployers, univers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oung peo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35640" y="3527640"/>
              <a:ext cx="1081080" cy="11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32360" y="324000"/>
              <a:ext cx="4767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73800" y="934920"/>
              <a:ext cx="215892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Developing knowledg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and understan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 a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ibution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TS, TEIs, SF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fessional and sub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ociation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1600" y="285840"/>
              <a:ext cx="215928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Motivation a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Commi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ared v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210348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 Curriculum for Excell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y for successfu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ps towards implementation</a:t>
            </a:r>
            <a:br>
              <a:rPr sz="28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te that they overlap and that there are intera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052640"/>
            <a:ext cx="9144000" cy="19825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ising awareness with all who need to know, and listening and responding to the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629080"/>
            <a:ext cx="8305920" cy="253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ing knowledge and understanding through reflection an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option of aspects of CfE by teachers and establis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dback - contribution to ongoing development and promoting 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96880" y="4603680"/>
            <a:ext cx="7647120" cy="2254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lementation – on basis of clear national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eachers planning on the basis of revised curriculum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iculum for each child reflects CfE principles an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 components in place: including CPD, resources, plann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sessment, qualifications, accountability arrangement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996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ome outcomes of eng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6200" y="12207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ren and young people experience better learning and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chers have deeper knowledge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groups provide considere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als refined in the light of this feedback and responses to feedback expl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PD plans made and need for resource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Engagement strategy requi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5840" y="1506600"/>
            <a:ext cx="82342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, shared messages across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ty about roles of all key 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ing with the grain of existing practice, networks an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requisite knowledge and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sectoral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kits’ for activities with differen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180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Feed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7680" y="156384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-line respo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ses from 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180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52480" y="179244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ease of the outcomes – timing and b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ning for eng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for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ing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ications for improvement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ications for CP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 Penman</cp:lastModifiedBy>
  <cp:lastPrinted>2006-09-07T17:51:05Z</cp:lastPrinted>
  <dcterms:modified xsi:type="dcterms:W3CDTF">2007-09-25T17:07:45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bjective-Caveats">
    <vt:lpwstr/>
  </property>
  <property fmtid="{D5CDD505-2E9C-101B-9397-08002B2CF9AE}" pid="3" name="Objective-Classification">
    <vt:lpwstr>Not classified</vt:lpwstr>
  </property>
  <property fmtid="{D5CDD505-2E9C-101B-9397-08002B2CF9AE}" pid="4" name="Objective-Comment">
    <vt:lpwstr/>
  </property>
  <property fmtid="{D5CDD505-2E9C-101B-9397-08002B2CF9AE}" pid="5" name="Objective-CreationStamp">
    <vt:filetime>2006-10-31T12:59:19Z</vt:filetime>
  </property>
  <property fmtid="{D5CDD505-2E9C-101B-9397-08002B2CF9AE}" pid="6" name="Objective-Date Received [system]">
    <vt:lpwstr>&lt;not set&gt;</vt:lpwstr>
  </property>
  <property fmtid="{D5CDD505-2E9C-101B-9397-08002B2CF9AE}" pid="7" name="Objective-Date of Original [system]">
    <vt:lpwstr>&lt;not set&gt;</vt:lpwstr>
  </property>
  <property fmtid="{D5CDD505-2E9C-101B-9397-08002B2CF9AE}" pid="8" name="Objective-DatePublished">
    <vt:lpwstr/>
  </property>
  <property fmtid="{D5CDD505-2E9C-101B-9397-08002B2CF9AE}" pid="9" name="Objective-FileNumber">
    <vt:lpwstr>POL/5756</vt:lpwstr>
  </property>
  <property fmtid="{D5CDD505-2E9C-101B-9397-08002B2CF9AE}" pid="10" name="Objective-Id">
    <vt:lpwstr>B904252</vt:lpwstr>
  </property>
  <property fmtid="{D5CDD505-2E9C-101B-9397-08002B2CF9AE}" pid="11" name="Objective-IsApproved">
    <vt:lpwstr>No</vt:lpwstr>
  </property>
  <property fmtid="{D5CDD505-2E9C-101B-9397-08002B2CF9AE}" pid="12" name="Objective-IsPublished">
    <vt:lpwstr>No</vt:lpwstr>
  </property>
  <property fmtid="{D5CDD505-2E9C-101B-9397-08002B2CF9AE}" pid="13" name="Objective-ModificationStamp">
    <vt:filetime>2006-10-31T12:59:24Z</vt:filetime>
  </property>
  <property fmtid="{D5CDD505-2E9C-101B-9397-08002B2CF9AE}" pid="14" name="Objective-Owner">
    <vt:lpwstr>Kerr, Alison A (U207718)</vt:lpwstr>
  </property>
  <property fmtid="{D5CDD505-2E9C-101B-9397-08002B2CF9AE}" pid="15" name="Objective-Parent">
    <vt:lpwstr>Curriculum for Excellence: Development of Curriculum review 3-18: Advice and policy - Schools - Curriculum and qualifications (3-18) file part 2: 2006</vt:lpwstr>
  </property>
  <property fmtid="{D5CDD505-2E9C-101B-9397-08002B2CF9AE}" pid="16" name="Objective-Path">
    <vt:lpwstr>Objective Global Folder:SE File Plan:Education, careers and employment:Education and skills:Schools - Curriculum and qualifications (3-18):Advice and policy: Schools - curriculum and qualifications (3-18):Curriculum for Excellence: Development of Curricul</vt:lpwstr>
  </property>
  <property fmtid="{D5CDD505-2E9C-101B-9397-08002B2CF9AE}" pid="17" name="Objective-State">
    <vt:lpwstr>Being Edited</vt:lpwstr>
  </property>
  <property fmtid="{D5CDD505-2E9C-101B-9397-08002B2CF9AE}" pid="18" name="Objective-Title">
    <vt:lpwstr>Meetings - Programme Board - Meeting 13 - Background Paper B - Promoters and Drivers to Implementation</vt:lpwstr>
  </property>
  <property fmtid="{D5CDD505-2E9C-101B-9397-08002B2CF9AE}" pid="19" name="Objective-Version">
    <vt:lpwstr>1.1</vt:lpwstr>
  </property>
  <property fmtid="{D5CDD505-2E9C-101B-9397-08002B2CF9AE}" pid="20" name="Objective-VersionComment">
    <vt:lpwstr>Version 2</vt:lpwstr>
  </property>
  <property fmtid="{D5CDD505-2E9C-101B-9397-08002B2CF9AE}" pid="21" name="Objective-VersionNumber">
    <vt:r8>2</vt:r8>
  </property>
  <property fmtid="{D5CDD505-2E9C-101B-9397-08002B2CF9AE}" pid="22" name="_AdHocReviewCycleID">
    <vt:r8>2042009019</vt:r8>
  </property>
  <property fmtid="{D5CDD505-2E9C-101B-9397-08002B2CF9AE}" pid="23" name="_AuthorEmail">
    <vt:lpwstr>Charlie.Penman@scotland.gsi.gov.uk</vt:lpwstr>
  </property>
  <property fmtid="{D5CDD505-2E9C-101B-9397-08002B2CF9AE}" pid="24" name="_AuthorEmailDisplayName">
    <vt:lpwstr>Penman C (Charlie)</vt:lpwstr>
  </property>
  <property fmtid="{D5CDD505-2E9C-101B-9397-08002B2CF9AE}" pid="25" name="_EmailSubject">
    <vt:lpwstr>Clean presentations</vt:lpwstr>
  </property>
</Properties>
</file>