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C7EE-1237-444F-AEF3-F51D62114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A95-B76C-479E-9D00-6783DE08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06E-DFE7-4635-9A60-DE594B6B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671-62D4-4C91-B4FA-5D06D21C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E5E-9A5A-45E0-A65C-B9FD5A15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8878-D616-4A3A-B1BD-29116330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25D1-F161-420B-9B11-633BC86E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8A24-C224-481C-8F83-4274ACBF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2B65-52F9-4E60-9D99-284EA4EC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AF06-11D9-43E3-99D3-6B24B610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0791-2848-4F85-BB13-0AA67127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D0DF-1583-4E50-9208-6B0E4ECC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DAD-E1BB-485A-B0D1-39169255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1116-E2E7-4A58-999A-E14F80F3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ADDA-CE9F-4182-80D8-A1FC9168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FBDE-31A8-42E5-BDA4-532B032F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F5F2-1790-4E8E-9140-4AE10D31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223E-2F1E-4F91-A696-4FF95437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3B2E5-B4C1-4830-A13D-B7C859B3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4482A-4336-432B-9B69-2C1AE799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41263-A3DC-4466-8D1D-6EA2E509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44AE6-BE93-43C3-90E6-29B58244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CFF80-2193-452C-8E1E-DCB9790B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DC0-2C63-40B7-B4BB-E54A8A53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810CD-383D-48AA-8D54-FA20E449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A32FD-A7F8-4EE9-A104-DC03CBAC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87816-1C7C-4F69-A272-8BCB6E6A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BEB88-EB05-40FB-806B-48A000C1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ED8BA-F1D6-4F72-ACF2-8DB7FBD7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A7B72-86FC-4A06-AC0E-CD065E4D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F0635-D95E-4184-9D63-8F9DEE2A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2FA-5AAB-4AFB-8F70-9312207A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7AA-0A2C-467C-AF2C-F96039C6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F15-F464-40AB-A031-877C8919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C51F-5BE3-4F1E-83A6-CCD0307A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E7B-B6D0-4D1E-88E1-8E5B5061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A392-ADA4-46E6-9A59-08E2B509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DC46-0B44-4AB7-8F85-B330FF8F5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427640" y="333360"/>
            <a:ext cx="360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1028-A294-4EF8-B4C6-0892A78AE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6C8B-7749-42CE-BAAD-B60E43051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7885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 Contacts Mee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 and Qualifications Task Group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focusing on following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e qualifications framework reflects CfE, particularly qualifications at SCQF levels 4 and 5 (Standard Grade Credit and General/Int 1 and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mote more effective recognition of school pupils’ wider achiev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Qualifica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ould be covered in consultat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ers’ overall vision for Curriculum for Excell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 between qualifications and other elements of program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consultation is focusing on qualifications at SCQF levels 4 and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and proposals covering qualifications structure at these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, grading, nomenclature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of Qualifications: Possible Opt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current dual system of Standard Grade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ediate 1 an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Intermediate 1 and 2 only (Discontinue S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“best” features of SG and Intermediate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2 to create new set of  qualifications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QF 4 and 5 that replaces the exis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r Achievements: Proposed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targeted development work with local authorities and others to take account of existing activities and test out new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inks with other work including expanding SCQF to encompass a wider range of awards than at 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broad national guidance and exemplification to promote key principles and good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agement activity on review of qualifications and recognising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ttish Learning Festival Seminars 1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&amp; 2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 grou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ursday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October - Radisson Hotel, Glasg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esday 2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October - Stirling Highland Hotel, Sti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ursday 2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October – Malmaison Hotel, Edinbur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uesday 3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October  - Copthorne Hotel, Aberd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dnesday 3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October - Thistle Hotel, Inver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agement activity on review of qualifications and recognising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authority group on recognising achie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ct:  julie.anderson@scotland.gsi.gov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5:42:30Z</dcterms:created>
  <dc:creator>Lorna Donnelly</dc:creator>
  <dc:description/>
  <dc:language>en-US</dc:language>
  <cp:lastModifiedBy>u200215</cp:lastModifiedBy>
  <dcterms:modified xsi:type="dcterms:W3CDTF">2007-09-26T15:25:54Z</dcterms:modified>
  <cp:revision>1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bjective-Caveats">
    <vt:lpwstr/>
  </property>
  <property fmtid="{D5CDD505-2E9C-101B-9397-08002B2CF9AE}" pid="3" name="Objective-Classification">
    <vt:lpwstr>Not classified</vt:lpwstr>
  </property>
  <property fmtid="{D5CDD505-2E9C-101B-9397-08002B2CF9AE}" pid="4" name="Objective-Comment">
    <vt:lpwstr/>
  </property>
  <property fmtid="{D5CDD505-2E9C-101B-9397-08002B2CF9AE}" pid="5" name="Objective-CreationStamp">
    <vt:filetime>2007-09-19T14:34:21Z</vt:filetime>
  </property>
  <property fmtid="{D5CDD505-2E9C-101B-9397-08002B2CF9AE}" pid="6" name="Objective-Date Received [system]">
    <vt:lpwstr>&lt;not set&gt;</vt:lpwstr>
  </property>
  <property fmtid="{D5CDD505-2E9C-101B-9397-08002B2CF9AE}" pid="7" name="Objective-Date of Original [system]">
    <vt:lpwstr>&lt;not set&gt;</vt:lpwstr>
  </property>
  <property fmtid="{D5CDD505-2E9C-101B-9397-08002B2CF9AE}" pid="8" name="Objective-DatePublished">
    <vt:lpwstr/>
  </property>
  <property fmtid="{D5CDD505-2E9C-101B-9397-08002B2CF9AE}" pid="9" name="Objective-FileNumber">
    <vt:lpwstr/>
  </property>
  <property fmtid="{D5CDD505-2E9C-101B-9397-08002B2CF9AE}" pid="10" name="Objective-Id">
    <vt:lpwstr>B1564039</vt:lpwstr>
  </property>
  <property fmtid="{D5CDD505-2E9C-101B-9397-08002B2CF9AE}" pid="11" name="Objective-IsApproved">
    <vt:lpwstr>No</vt:lpwstr>
  </property>
  <property fmtid="{D5CDD505-2E9C-101B-9397-08002B2CF9AE}" pid="12" name="Objective-IsPublished">
    <vt:lpwstr>No</vt:lpwstr>
  </property>
  <property fmtid="{D5CDD505-2E9C-101B-9397-08002B2CF9AE}" pid="13" name="Objective-ModificationStamp">
    <vt:filetime>2007-09-19T14:34:24Z</vt:filetime>
  </property>
  <property fmtid="{D5CDD505-2E9C-101B-9397-08002B2CF9AE}" pid="14" name="Objective-Owner">
    <vt:lpwstr>Donachie, Peter P (U002013)</vt:lpwstr>
  </property>
  <property fmtid="{D5CDD505-2E9C-101B-9397-08002B2CF9AE}" pid="15" name="Objective-Parent">
    <vt:lpwstr>Donachie, Peter P (U002013)</vt:lpwstr>
  </property>
  <property fmtid="{D5CDD505-2E9C-101B-9397-08002B2CF9AE}" pid="16" name="Objective-Path">
    <vt:lpwstr>Donachie, Peter P (U002013):</vt:lpwstr>
  </property>
  <property fmtid="{D5CDD505-2E9C-101B-9397-08002B2CF9AE}" pid="17" name="Objective-State">
    <vt:lpwstr>Being Edited</vt:lpwstr>
  </property>
  <property fmtid="{D5CDD505-2E9C-101B-9397-08002B2CF9AE}" pid="18" name="Objective-Title">
    <vt:lpwstr>EA Contacts Meeting - AQTG Update</vt:lpwstr>
  </property>
  <property fmtid="{D5CDD505-2E9C-101B-9397-08002B2CF9AE}" pid="19" name="Objective-Version">
    <vt:lpwstr>0.2</vt:lpwstr>
  </property>
  <property fmtid="{D5CDD505-2E9C-101B-9397-08002B2CF9AE}" pid="20" name="Objective-VersionComment">
    <vt:lpwstr>Version 2</vt:lpwstr>
  </property>
  <property fmtid="{D5CDD505-2E9C-101B-9397-08002B2CF9AE}" pid="21" name="Objective-VersionNumber">
    <vt:r8>2</vt:r8>
  </property>
  <property fmtid="{D5CDD505-2E9C-101B-9397-08002B2CF9AE}" pid="22" name="_AdHocReviewCycleID">
    <vt:r8>1303288111</vt:r8>
  </property>
  <property fmtid="{D5CDD505-2E9C-101B-9397-08002B2CF9AE}" pid="23" name="_AuthorEmail">
    <vt:lpwstr>Charlie.Penman@scotland.gsi.gov.uk</vt:lpwstr>
  </property>
  <property fmtid="{D5CDD505-2E9C-101B-9397-08002B2CF9AE}" pid="24" name="_AuthorEmailDisplayName">
    <vt:lpwstr>Penman C (Charlie)</vt:lpwstr>
  </property>
  <property fmtid="{D5CDD505-2E9C-101B-9397-08002B2CF9AE}" pid="25" name="_EmailSubject">
    <vt:lpwstr>Clean presentations</vt:lpwstr>
  </property>
  <property fmtid="{D5CDD505-2E9C-101B-9397-08002B2CF9AE}" pid="26" name="_PreviousAdHocReviewCycleID">
    <vt:r8>336567564</vt:r8>
  </property>
</Properties>
</file>