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2CE7-3651-43E2-94E8-4F7D7655E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E81-D3B1-4B4A-9037-EA939067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EA1-89A1-4337-934E-0A8925FF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4DC-FB70-4ABB-8B1C-F2AC98F4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343-2DD6-491D-B194-0F18A38B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FA7C-50D3-4DBD-9200-5E4FB6D4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8793-402C-476B-81D3-1BBBF333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E45E-57AD-47AB-911E-F8B895EE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85E9-17AB-48C1-83D7-18B5C52B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7760-3E0D-40AF-A9D5-75E91768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BEFA-E3F2-461C-B68A-C31EB599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7862-624A-4131-8822-52ECDFB1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6F1-C793-4866-87EC-F0457313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72A1-F8D8-4A10-BB49-197F7187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A7A3-4F3F-440B-AAA9-0BFB1A95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3599-5AE6-445A-8F4E-B5D98BFF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D35A-93EF-469A-9A0A-97DAFCD4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C702-3079-48C6-823E-1F08A7EE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6320-817D-495B-B570-E4D8C1A4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585E-DF38-4EFE-9E01-352921BB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419B-01F5-47BF-97F9-D0ACE33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F74F-75C2-4E50-A979-ED0FDE90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B25FB-6F24-4463-888C-C53D8444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8A1-F26E-48E2-83A6-DB5FB76E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6787-47B1-4260-AEC7-E4EF979B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93BD-E350-44FD-85E3-90FBC42C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3815C-D929-456D-865E-983D15E2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0817-6E2B-4448-9D42-188C8842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777AA-4C69-4899-BA1D-B308B1F8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20CD2-CAFC-43B8-B082-7A4B0954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7B16-4EC4-408B-8207-2DAE70A6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C821-71F1-4F88-A288-A0542627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C92-3A49-420C-BED9-75349E98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2EE-EB46-44E3-9A0C-0927188C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C89-EE16-4AF8-824F-AC8823C1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CFF-6E01-439D-81E1-9BADBC72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876-C50A-49B0-BA66-63F034E3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BE11-083A-4396-969E-F44123294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427640" y="333360"/>
            <a:ext cx="360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FAC4-453D-4ECB-9598-CF72BDB0C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2529-8A9F-45B5-A032-2EC5C612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7885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 Contacts Mee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 and Qualifications Task Group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focusing on following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 qualifications framework reflects CfE, particularly qualifications at SCQF levels 4 and 5 (Standard Grade Credit and General/Int 1 and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e more effective recognition of school pupils’ wider achiev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Qualifica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ould be covered in consultat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ers’ overall vision for Curriculum for Excell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between qualifications and other elements of program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onsultation is focusing on qualifications at SCQF levels 4 and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and proposals covering qualifications structure at these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, grading, nomenclatur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of Qualifications: Possible Op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current dual system of Standard Grade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Intermediate 1 and 2 only (Discontinue S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“best” features of SG and Intermediate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2 to create new set of  qualifications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QF 4 and 5 that replaces the exis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r Achievements: Proposed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targeted development work with local authorities and others to take account of existing activities and test out new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inks with other work including expanding SCQF to encompass a wider range of awards than at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broad national guidance and exemplification to promote key principles and good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agement activity on review of qualifications and recognising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tish Learning Festival Seminars 1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&amp; 2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grou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ursday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October - Radisson Hotel, Glasg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esday 2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October - Stirling Highland Hotel, Sti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ursday 2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October – Malmaison Hotel, 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esday 3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October  - Copthorne Hotel, Aberd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dnesday 3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October - Thistle Hotel, Inve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agement activity on review of qualifications and recognising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authority group on recognising achie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ct:  julie.anderson@scotland.gsi.gov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5:42:30Z</dcterms:created>
  <dc:creator>Lorna Donnelly</dc:creator>
  <dc:description/>
  <dc:language>en-US</dc:language>
  <cp:lastModifiedBy>u200215</cp:lastModifiedBy>
  <dcterms:modified xsi:type="dcterms:W3CDTF">2007-09-26T15:25:54Z</dcterms:modified>
  <cp:revision>1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bjective-Caveats">
    <vt:lpwstr/>
  </property>
  <property fmtid="{D5CDD505-2E9C-101B-9397-08002B2CF9AE}" pid="3" name="Objective-Classification">
    <vt:lpwstr>Not classified</vt:lpwstr>
  </property>
  <property fmtid="{D5CDD505-2E9C-101B-9397-08002B2CF9AE}" pid="4" name="Objective-Comment">
    <vt:lpwstr/>
  </property>
  <property fmtid="{D5CDD505-2E9C-101B-9397-08002B2CF9AE}" pid="5" name="Objective-CreationStamp">
    <vt:filetime>2007-09-19T14:34:21Z</vt:filetime>
  </property>
  <property fmtid="{D5CDD505-2E9C-101B-9397-08002B2CF9AE}" pid="6" name="Objective-Date Received [system]">
    <vt:lpwstr>&lt;not set&gt;</vt:lpwstr>
  </property>
  <property fmtid="{D5CDD505-2E9C-101B-9397-08002B2CF9AE}" pid="7" name="Objective-Date of Original [system]">
    <vt:lpwstr>&lt;not set&gt;</vt:lpwstr>
  </property>
  <property fmtid="{D5CDD505-2E9C-101B-9397-08002B2CF9AE}" pid="8" name="Objective-DatePublished">
    <vt:lpwstr/>
  </property>
  <property fmtid="{D5CDD505-2E9C-101B-9397-08002B2CF9AE}" pid="9" name="Objective-FileNumber">
    <vt:lpwstr/>
  </property>
  <property fmtid="{D5CDD505-2E9C-101B-9397-08002B2CF9AE}" pid="10" name="Objective-Id">
    <vt:lpwstr>B1564039</vt:lpwstr>
  </property>
  <property fmtid="{D5CDD505-2E9C-101B-9397-08002B2CF9AE}" pid="11" name="Objective-IsApproved">
    <vt:lpwstr>No</vt:lpwstr>
  </property>
  <property fmtid="{D5CDD505-2E9C-101B-9397-08002B2CF9AE}" pid="12" name="Objective-IsPublished">
    <vt:lpwstr>No</vt:lpwstr>
  </property>
  <property fmtid="{D5CDD505-2E9C-101B-9397-08002B2CF9AE}" pid="13" name="Objective-ModificationStamp">
    <vt:filetime>2007-09-19T14:34:24Z</vt:filetime>
  </property>
  <property fmtid="{D5CDD505-2E9C-101B-9397-08002B2CF9AE}" pid="14" name="Objective-Owner">
    <vt:lpwstr>Donachie, Peter P (U002013)</vt:lpwstr>
  </property>
  <property fmtid="{D5CDD505-2E9C-101B-9397-08002B2CF9AE}" pid="15" name="Objective-Parent">
    <vt:lpwstr>Donachie, Peter P (U002013)</vt:lpwstr>
  </property>
  <property fmtid="{D5CDD505-2E9C-101B-9397-08002B2CF9AE}" pid="16" name="Objective-Path">
    <vt:lpwstr>Donachie, Peter P (U002013):</vt:lpwstr>
  </property>
  <property fmtid="{D5CDD505-2E9C-101B-9397-08002B2CF9AE}" pid="17" name="Objective-State">
    <vt:lpwstr>Being Edited</vt:lpwstr>
  </property>
  <property fmtid="{D5CDD505-2E9C-101B-9397-08002B2CF9AE}" pid="18" name="Objective-Title">
    <vt:lpwstr>EA Contacts Meeting - AQTG Update</vt:lpwstr>
  </property>
  <property fmtid="{D5CDD505-2E9C-101B-9397-08002B2CF9AE}" pid="19" name="Objective-Version">
    <vt:lpwstr>0.2</vt:lpwstr>
  </property>
  <property fmtid="{D5CDD505-2E9C-101B-9397-08002B2CF9AE}" pid="20" name="Objective-VersionComment">
    <vt:lpwstr>Version 2</vt:lpwstr>
  </property>
  <property fmtid="{D5CDD505-2E9C-101B-9397-08002B2CF9AE}" pid="21" name="Objective-VersionNumber">
    <vt:r8>2</vt:r8>
  </property>
  <property fmtid="{D5CDD505-2E9C-101B-9397-08002B2CF9AE}" pid="22" name="_AdHocReviewCycleID">
    <vt:r8>1303288111</vt:r8>
  </property>
  <property fmtid="{D5CDD505-2E9C-101B-9397-08002B2CF9AE}" pid="23" name="_AuthorEmail">
    <vt:lpwstr>Charlie.Penman@scotland.gsi.gov.uk</vt:lpwstr>
  </property>
  <property fmtid="{D5CDD505-2E9C-101B-9397-08002B2CF9AE}" pid="24" name="_AuthorEmailDisplayName">
    <vt:lpwstr>Penman C (Charlie)</vt:lpwstr>
  </property>
  <property fmtid="{D5CDD505-2E9C-101B-9397-08002B2CF9AE}" pid="25" name="_EmailSubject">
    <vt:lpwstr>Clean presentations</vt:lpwstr>
  </property>
  <property fmtid="{D5CDD505-2E9C-101B-9397-08002B2CF9AE}" pid="26" name="_PreviousAdHocReviewCycleID">
    <vt:r8>336567564</vt:r8>
  </property>
</Properties>
</file>